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392F-E679-4738-9D02-1377C828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2786-D9C4-474A-8ADE-2D3E27B6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A889-B64C-434A-9D13-7B74077D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12F4-8DD6-41DD-BCF0-A9E85896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4EA0-F902-49AE-A2F1-EC946845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79B3-20B3-496C-BC55-4AC5FF16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3194-F866-4AE3-8EA6-A4FE7664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5AD9-E648-4B6D-AE16-C8D6DD04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5BC6-9505-40D9-AFDB-D5B18EA7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AA36-490D-46C6-8EC6-29E2ADA4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A582-A99C-4A60-9930-4A8AA299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8B93-EE40-4877-A63F-7404B376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8641-866D-4540-8B4D-70DBB14533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4080" y="1447920"/>
            <a:ext cx="6363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hen Not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o Use th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antel-Haenszel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es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848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93432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693432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219320" y="3200400"/>
            <a:ext cx="6858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238880" cy="762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7238880" cy="1371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14400" y="3352680"/>
            <a:ext cx="72388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61722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5438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848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7T04:29:30Z</dcterms:modified>
  <cp:revision>217</cp:revision>
  <dc:subject/>
  <dc:title>Slide 1</dc:title>
</cp:coreProperties>
</file>